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28DE2-E47E-446C-AE09-ED51D6F96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79E00-F4DA-4840-8084-95804203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3C226-E0F4-4FDC-9343-C6F395400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2E23-7644-45DE-B0B1-53E0674E5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202B1-0353-4469-8DD7-D868C266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CAA3-AF8C-4649-8CA3-485F7169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5CCF0-1E7A-4E9F-9616-C9AE93C85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7931C-4C22-4DAA-8822-D978E928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9CD1E-620A-4B5C-A84D-1136BACC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9190-E4FA-4F36-AE4A-DF87C06A4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053C-374A-4F8A-8602-05EEE613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B72E-ED0B-4BCC-A29C-EF8AF89D4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2069-84E3-4761-A728-9E612AA16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828800" y="3143160"/>
            <a:ext cx="6400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aptat după Manualul de Fizică, clasa a IX-a, Mircea Nistor,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2f"/>
            </a:gs>
            <a:gs pos="100000">
              <a:srgbClr val="cc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Elev</cp:lastModifiedBy>
  <dcterms:modified xsi:type="dcterms:W3CDTF">2012-06-18T11:09: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